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0F04-BCEC-41B3-9A90-0885433F2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E37B-6410-4D89-A4D4-CD08B5E0A7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3092-4BA4-4E6E-83BF-2AF3B580A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C907-DBF8-4315-B4FA-9E567036C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2404-69C4-4076-8EAD-320C3B5C1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54C-871E-4C01-8FC5-9802F3A2BB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640-3A83-4C4B-91C9-489C6C354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00F1-D0FB-431D-B570-908705A47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A6D3-58FE-4A51-B020-DA457E991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7E6-BE53-42EC-9946-51F5637EF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EB2-8F0F-48A3-B26B-A5F93B7CC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9CF1-5EC1-4EEF-AD82-8FD724090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F52-CD52-4A64-8E47-D91C34795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518-6EA0-4A59-9BF9-1FC0CD939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193F-6728-4B53-A300-E0E08FBBD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ACB6-AE32-4977-9FEE-3171416DC2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2A66-04D2-4485-A1AF-9869B119C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7132-F142-4452-B370-8F172A74C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32D0-C919-4A0F-8FE8-979828E4F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0977-CFF6-4FA5-A975-6BC7E82C4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1E0-DB84-42EE-9CB1-3540CB2C3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1C74-54F7-4B31-A7FB-15F70FACD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3F13-A038-43AD-B2CE-F7E31FB20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57FF-15DE-40C0-A521-0013955D2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80A-883E-499A-B09E-190D68E0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1DAA-DE7E-4C15-9CE2-80E375D4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625-AE45-40D4-8049-671041C0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6FC-B55A-4E73-AF6A-B8AB74EA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116-BD55-4D9C-A601-70372C3F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ECC-E51B-4FF3-B35F-5FE1835E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201-5217-4A6B-A031-23F7FC37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981-B842-44BC-95C7-418A300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881-86B1-4E5B-B8EB-726D98A1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3BA-4AE5-48DC-B8E3-5D34E97A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A74-74E2-486F-8611-A82E429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FEF-459B-427B-8AB4-E52242A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3EB-A58F-4AC5-BF8B-CB06CF804B0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48Z</dcterms:modified>
  <cp:revision>346</cp:revision>
  <dc:subject/>
  <dc:title>PowerPoint Presentation</dc:title>
</cp:coreProperties>
</file>